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1072E-87C3-4924-AB78-D480042AC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52EA8-45DB-4ECF-90C8-21C4DD213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E37E9-0292-4CBD-8294-B457C283B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97384-D820-4D07-AE2B-4E171B167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0C960-E3E5-4924-9D0F-CF6BB8A50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C6B69-93A2-45C2-9D18-12FB48C33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52BDA-CB30-41A7-AAA6-15AF7F7CE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FC26F-56FF-4697-B242-13B73FC62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F6611-EB0B-4946-B8EC-555742FC5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F3B66-B933-4A6C-8946-5646599E6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E1B26-95E5-4D51-8FA6-AFBDCBC1A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0B279-5E8E-45AA-BDE2-E72BE5C7E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6739A-3CAF-4568-8ABC-FFCBFB04C1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2895480" y="2819520"/>
          <a:ext cx="3014280" cy="1196640"/>
        </p:xfrm>
        <a:graphic>
          <a:graphicData uri="http://schemas.openxmlformats.org/drawingml/2006/table">
            <a:tbl>
              <a:tblPr/>
              <a:tblGrid>
                <a:gridCol w="1040400"/>
                <a:gridCol w="1973880"/>
              </a:tblGrid>
              <a:tr h="360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31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6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124080" y="2362320"/>
          <a:ext cx="4038840" cy="1197000"/>
        </p:xfrm>
        <a:graphic>
          <a:graphicData uri="http://schemas.openxmlformats.org/drawingml/2006/table">
            <a:tbl>
              <a:tblPr/>
              <a:tblGrid>
                <a:gridCol w="1081080"/>
                <a:gridCol w="2957760"/>
              </a:tblGrid>
              <a:tr h="36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hexadecim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4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8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10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3124080" y="2362320"/>
          <a:ext cx="3886200" cy="1108080"/>
        </p:xfrm>
        <a:graphic>
          <a:graphicData uri="http://schemas.openxmlformats.org/drawingml/2006/table">
            <a:tbl>
              <a:tblPr/>
              <a:tblGrid>
                <a:gridCol w="1040040"/>
                <a:gridCol w="284616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hexadecim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4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8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1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990720" y="2286000"/>
          <a:ext cx="5562360" cy="1108080"/>
        </p:xfrm>
        <a:graphic>
          <a:graphicData uri="http://schemas.openxmlformats.org/drawingml/2006/table">
            <a:tbl>
              <a:tblPr/>
              <a:tblGrid>
                <a:gridCol w="914400"/>
                <a:gridCol w="1295280"/>
                <a:gridCol w="1371600"/>
                <a:gridCol w="198108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put forma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 forma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bits to upscal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.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990720" y="2286000"/>
          <a:ext cx="5562360" cy="1108080"/>
        </p:xfrm>
        <a:graphic>
          <a:graphicData uri="http://schemas.openxmlformats.org/drawingml/2006/table">
            <a:tbl>
              <a:tblPr/>
              <a:tblGrid>
                <a:gridCol w="914400"/>
                <a:gridCol w="1295280"/>
                <a:gridCol w="1371600"/>
                <a:gridCol w="198108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put forma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 forma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bits to upscal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.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.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.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0T06:45:48Z</dcterms:created>
  <dc:creator>AMI-D02</dc:creator>
  <dc:description/>
  <dc:language>en-US</dc:language>
  <cp:lastModifiedBy>AMI-D02</cp:lastModifiedBy>
  <dcterms:modified xsi:type="dcterms:W3CDTF">2010-11-10T07:19:15Z</dcterms:modified>
  <cp:revision>6</cp:revision>
  <dc:subject/>
  <dc:title>Slide 1</dc:title>
</cp:coreProperties>
</file>