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56D1-FB9B-4450-B8D2-C68B04F96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092B-5798-4705-897B-8E995A464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646B-C207-4605-B225-7DAAB1A88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190A-144A-4CEA-A162-1489A2A05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76D7-092C-4C83-A762-C9C53218C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AF4A-CD7B-4C27-A395-9F43EFEC8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7E06-A14C-43C9-8A3E-44D172722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3063-F733-468C-981F-AF6E94273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F5ED-75F2-42AE-B772-15E7B7000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C4F1-6E60-4CA8-9782-C33F7E871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879F-04E1-4789-87EB-816BF62A4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8196-16A2-445F-B572-926915B48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04478-6BA2-4D6D-9270-821E34B444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895480" y="2819520"/>
          <a:ext cx="3014280" cy="1196640"/>
        </p:xfrm>
        <a:graphic>
          <a:graphicData uri="http://schemas.openxmlformats.org/drawingml/2006/table">
            <a:tbl>
              <a:tblPr/>
              <a:tblGrid>
                <a:gridCol w="1040400"/>
                <a:gridCol w="1973880"/>
              </a:tblGrid>
              <a:tr h="360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3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6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124080" y="2362320"/>
          <a:ext cx="4038840" cy="1197000"/>
        </p:xfrm>
        <a:graphic>
          <a:graphicData uri="http://schemas.openxmlformats.org/drawingml/2006/table">
            <a:tbl>
              <a:tblPr/>
              <a:tblGrid>
                <a:gridCol w="1081080"/>
                <a:gridCol w="2957760"/>
              </a:tblGrid>
              <a:tr h="36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124080" y="2362320"/>
          <a:ext cx="3886200" cy="1108080"/>
        </p:xfrm>
        <a:graphic>
          <a:graphicData uri="http://schemas.openxmlformats.org/drawingml/2006/table">
            <a:tbl>
              <a:tblPr/>
              <a:tblGrid>
                <a:gridCol w="1040040"/>
                <a:gridCol w="28461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.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06:45:48Z</dcterms:created>
  <dc:creator>AMI-D02</dc:creator>
  <dc:description/>
  <dc:language>en-US</dc:language>
  <cp:lastModifiedBy>AMI-D02</cp:lastModifiedBy>
  <dcterms:modified xsi:type="dcterms:W3CDTF">2010-11-10T07:19:15Z</dcterms:modified>
  <cp:revision>6</cp:revision>
  <dc:subject/>
  <dc:title>Slide 1</dc:title>
</cp:coreProperties>
</file>