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DF92C-B53E-4EBE-9BDE-743AB4EF5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94C5C-3951-4427-8613-4D9E6CF38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F13EF-85BF-4A75-A76B-5969C04DD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730C8-393A-4479-A47D-D6847856A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A9B6E-B459-4DE9-AFF1-86AC06D03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C9699-AB2C-4D57-982E-729BDECE9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EF2AA-E909-4EB8-994E-32ED1AEA6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140CB-1BE5-49C2-9D19-DA81E1A38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87A9F-B39B-48F1-BA16-C6A0EB864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89A62-7F2F-45CE-AE76-92D6DCE5D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F2141-9F04-44D6-93C7-58DB30E65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BCF45-A44F-44D5-A8D4-97F81DD53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4C24D-C573-47FE-800E-179E991BD5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2895480" y="2819520"/>
          <a:ext cx="3014280" cy="1196640"/>
        </p:xfrm>
        <a:graphic>
          <a:graphicData uri="http://schemas.openxmlformats.org/drawingml/2006/table">
            <a:tbl>
              <a:tblPr/>
              <a:tblGrid>
                <a:gridCol w="1040400"/>
                <a:gridCol w="1973880"/>
              </a:tblGrid>
              <a:tr h="360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31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6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124080" y="2362320"/>
          <a:ext cx="4038840" cy="1197000"/>
        </p:xfrm>
        <a:graphic>
          <a:graphicData uri="http://schemas.openxmlformats.org/drawingml/2006/table">
            <a:tbl>
              <a:tblPr/>
              <a:tblGrid>
                <a:gridCol w="1081080"/>
                <a:gridCol w="2957760"/>
              </a:tblGrid>
              <a:tr h="36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hexadecim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4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8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10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3124080" y="2362320"/>
          <a:ext cx="3886200" cy="1108080"/>
        </p:xfrm>
        <a:graphic>
          <a:graphicData uri="http://schemas.openxmlformats.org/drawingml/2006/table">
            <a:tbl>
              <a:tblPr/>
              <a:tblGrid>
                <a:gridCol w="1040040"/>
                <a:gridCol w="284616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hexadecim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4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8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1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990720" y="2286000"/>
          <a:ext cx="5562360" cy="1108080"/>
        </p:xfrm>
        <a:graphic>
          <a:graphicData uri="http://schemas.openxmlformats.org/drawingml/2006/table">
            <a:tbl>
              <a:tblPr/>
              <a:tblGrid>
                <a:gridCol w="914400"/>
                <a:gridCol w="1295280"/>
                <a:gridCol w="1371600"/>
                <a:gridCol w="198108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put forma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 forma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bits to upscal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.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990720" y="2286000"/>
          <a:ext cx="5562360" cy="1108080"/>
        </p:xfrm>
        <a:graphic>
          <a:graphicData uri="http://schemas.openxmlformats.org/drawingml/2006/table">
            <a:tbl>
              <a:tblPr/>
              <a:tblGrid>
                <a:gridCol w="914400"/>
                <a:gridCol w="1295280"/>
                <a:gridCol w="1371600"/>
                <a:gridCol w="198108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put forma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 forma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bits to upscal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.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.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.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0T06:45:48Z</dcterms:created>
  <dc:creator>AMI-D02</dc:creator>
  <dc:description/>
  <dc:language>en-US</dc:language>
  <cp:lastModifiedBy>AMI-D02</cp:lastModifiedBy>
  <dcterms:modified xsi:type="dcterms:W3CDTF">2010-11-10T07:19:15Z</dcterms:modified>
  <cp:revision>6</cp:revision>
  <dc:subject/>
  <dc:title>Slide 1</dc:title>
</cp:coreProperties>
</file>