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8EEC0-0FC6-4EAF-9566-CFFA98CD7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8A520-F773-4E72-9C9E-CB2695208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AACDF-E38B-4598-B56D-E3A8DAE46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558A2-42AE-4BBB-AE5E-A2A4EF39E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6B00E-1770-43D3-8B0A-1F09E2DD3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CA6F6-1229-4163-90DD-3A84AE449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ABA7F-84BC-44E1-BA9E-3800AA824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AAD22-F5D4-468B-83A1-4638378C9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437EC-C78C-4A25-B1F5-3044A3347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FB3E0-51F7-473D-8353-F36B762D9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56BDE-B1F9-4D53-A1BC-1737F519F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AF11A-907A-4DA5-BC38-75A39C424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BF6F1-559D-4E37-BBEA-8EBD6FF2AE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2895480" y="2819520"/>
          <a:ext cx="3014280" cy="1196640"/>
        </p:xfrm>
        <a:graphic>
          <a:graphicData uri="http://schemas.openxmlformats.org/drawingml/2006/table">
            <a:tbl>
              <a:tblPr/>
              <a:tblGrid>
                <a:gridCol w="1040400"/>
                <a:gridCol w="1973880"/>
              </a:tblGrid>
              <a:tr h="360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31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6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124080" y="2362320"/>
          <a:ext cx="4038840" cy="1197000"/>
        </p:xfrm>
        <a:graphic>
          <a:graphicData uri="http://schemas.openxmlformats.org/drawingml/2006/table">
            <a:tbl>
              <a:tblPr/>
              <a:tblGrid>
                <a:gridCol w="1081080"/>
                <a:gridCol w="2957760"/>
              </a:tblGrid>
              <a:tr h="36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hexadecim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4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8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10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3124080" y="2362320"/>
          <a:ext cx="3886200" cy="1108080"/>
        </p:xfrm>
        <a:graphic>
          <a:graphicData uri="http://schemas.openxmlformats.org/drawingml/2006/table">
            <a:tbl>
              <a:tblPr/>
              <a:tblGrid>
                <a:gridCol w="1040040"/>
                <a:gridCol w="284616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hexadecim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4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8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1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990720" y="2286000"/>
          <a:ext cx="5562360" cy="1108080"/>
        </p:xfrm>
        <a:graphic>
          <a:graphicData uri="http://schemas.openxmlformats.org/drawingml/2006/table">
            <a:tbl>
              <a:tblPr/>
              <a:tblGrid>
                <a:gridCol w="914400"/>
                <a:gridCol w="1295280"/>
                <a:gridCol w="1371600"/>
                <a:gridCol w="198108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put forma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 forma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bits to upscal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.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990720" y="2286000"/>
          <a:ext cx="5562360" cy="1108080"/>
        </p:xfrm>
        <a:graphic>
          <a:graphicData uri="http://schemas.openxmlformats.org/drawingml/2006/table">
            <a:tbl>
              <a:tblPr/>
              <a:tblGrid>
                <a:gridCol w="914400"/>
                <a:gridCol w="1295280"/>
                <a:gridCol w="1371600"/>
                <a:gridCol w="198108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put forma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 forma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bits to upscal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.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.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.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0T06:45:48Z</dcterms:created>
  <dc:creator>AMI-D02</dc:creator>
  <dc:description/>
  <dc:language>en-US</dc:language>
  <cp:lastModifiedBy>AMI-D02</cp:lastModifiedBy>
  <dcterms:modified xsi:type="dcterms:W3CDTF">2010-11-10T07:19:15Z</dcterms:modified>
  <cp:revision>6</cp:revision>
  <dc:subject/>
  <dc:title>Slide 1</dc:title>
</cp:coreProperties>
</file>