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1E63-78F9-4771-8CE5-5149AF6BC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F526-CF7D-4F80-87B7-C215173B9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C4E-B416-4EC4-B39E-913722C5F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83DF5-0BD7-4C95-A830-458D95CF9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336D5-A12E-4463-A1C9-D377919C5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32AB-51E4-4524-B410-CA5C981E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8203C2-F5CE-405B-BB5D-FE6322B95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0921-8A34-4C48-9C50-61393EEB4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2435-6D55-434F-B34E-76BCADD9BF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64FE4-7E73-4B47-A091-B3216672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359B-92BC-449F-9967-7CE16ADA91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CAF44-3B6B-42B0-A6E2-A126BE584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C914A-D7F4-4166-85AD-BB1F480E1A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2895480" y="2819520"/>
          <a:ext cx="3014280" cy="1196640"/>
        </p:xfrm>
        <a:graphic>
          <a:graphicData uri="http://schemas.openxmlformats.org/drawingml/2006/table">
            <a:tbl>
              <a:tblPr/>
              <a:tblGrid>
                <a:gridCol w="1040400"/>
                <a:gridCol w="1973880"/>
              </a:tblGrid>
              <a:tr h="3607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3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06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6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12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3124080" y="2362320"/>
          <a:ext cx="4038840" cy="1197000"/>
        </p:xfrm>
        <a:graphic>
          <a:graphicData uri="http://schemas.openxmlformats.org/drawingml/2006/table">
            <a:tbl>
              <a:tblPr/>
              <a:tblGrid>
                <a:gridCol w="1081080"/>
                <a:gridCol w="2957760"/>
              </a:tblGrid>
              <a:tr h="36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0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124080" y="2362320"/>
          <a:ext cx="3886200" cy="1108080"/>
        </p:xfrm>
        <a:graphic>
          <a:graphicData uri="http://schemas.openxmlformats.org/drawingml/2006/table">
            <a:tbl>
              <a:tblPr/>
              <a:tblGrid>
                <a:gridCol w="1040040"/>
                <a:gridCol w="284616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CT Siz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ormalizing factor value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hexadecimal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4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8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x100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.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.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.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990720" y="2286000"/>
          <a:ext cx="5562360" cy="110808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98108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CT Siz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nput format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utput format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umber of bits to upscal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4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2.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0.2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2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2.3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8.2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10T06:45:48Z</dcterms:created>
  <dc:creator>AMI-D02</dc:creator>
  <dc:description/>
  <dc:language>en-US</dc:language>
  <cp:lastModifiedBy>AMI-D02</cp:lastModifiedBy>
  <dcterms:modified xsi:type="dcterms:W3CDTF">2010-11-10T07:19:15Z</dcterms:modified>
  <cp:revision>6</cp:revision>
  <dc:subject/>
  <dc:title>Slide 1</dc:title>
</cp:coreProperties>
</file>